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ct" ContentType="image/x-pict"/>
  <Override PartName="/ppt/media/image10.pct" ContentType="image/x-pict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EE6-2748-442E-A305-E2C42273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8E6-3A6B-4882-8371-366A7FE1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C9E-DE9D-48AF-A51E-3B728EAB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7B2-0864-4FFC-B3A5-F5A845E7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B760-C642-4872-8A1B-75BDBB2A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0CB-AF9E-4FD6-97C7-4C4A6B0E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5B7-32E8-4204-AFB6-1AA8BEBD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BB56-D9C9-4FE7-A04F-F0A17ECC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379-6C4C-4E57-9011-9BFE8615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17F-3C44-46BF-9372-BFDD430E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482B-5DFE-4045-BBDB-237115C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E2A-2779-4C91-A67C-5D3DBACC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5F2-CA04-497A-AEC2-0DCA699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0000-6804-4316-95BD-50EAA80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F2F2-F9CF-4049-AEFD-27FB61FB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6D9-AD9B-4EC8-A911-D8443E40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EA5-0A59-49B8-9E94-C3CFCD77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74E-E042-4A2D-A5B7-6204E6FF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B93-DC51-4E59-8949-7C2F15D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4E9-4CF8-4852-BE20-73D9BBBB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337-3BF8-41D4-AD70-265B30AF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049-9347-4449-A563-843471F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585-5491-430E-8061-C04EC68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BE0-235D-416D-8341-3D6FC09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429-E424-474D-85F5-5841211D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7C2D-DDE9-457D-8B63-BDDD7176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students.ed.qut.edu.au/n2364379/mdb377/DichotomousKeyOutline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students.ed.qut.edu.au/n2364379/mdb377/DKwombat1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students.ed.qut.edu.au/n2364379/mdb377/DKredbelly1.html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hyperlink" Target="http://www.arborday.org/trees/whattree/WhatTree.cfm?ItemID=E6A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hyperlink" Target="http://www.amnh.org/learn/biodiversity_counts/ident_help/Text_Keys/text_keys_index.htm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8.jpeg"/><Relationship Id="rId9" Type="http://schemas.openxmlformats.org/officeDocument/2006/relationships/hyperlink" Target="http://www.mushroomexpert.com/major_groups.html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recent the LCA for two organisms, the more closely related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losely related they are, the more taxa they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more recent the LC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recent the LCA for two organisms, the more closely related they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closely related they are, the more taxa they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re recent the LCA… the more taxa they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819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191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257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438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715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360" y="317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5480" y="2333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05840" y="4695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20240" y="1876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95840" y="317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9520" y="37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42840" y="5153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1320" y="202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0240" y="2943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24640" y="37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0" y="46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73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95520" y="2638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00440" y="5686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72200" y="3629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a classification scheme for your Caminal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int on the timeline is a species. Give them good hardy Latin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pecies are probably in the same genus?  Give those genera a name; also complete the full scientific name for each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genera are probably in the same family?  Label and name the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amilies are probably in the same or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rders are probably in the same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l these Caminalcules are in the imaginary phylum Caminacula, and real kingdom Animalia and domain Eukary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:  What are the eight major taxonomic ranks, from the one with the m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on ancestors to the one with the m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on ances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e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pecies is the most basic unit of the taxonomic syst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ow scientis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es gets trick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is famili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wolv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is lup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interbreed to create viable offspring.  Why are they different spec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atriton Salamander in Mexico looks identical in every way to another salamander, Oedepina, that lives several hundred miles away.  Not even a herpetologist can tell them apart by looking at them.  They are named as different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ifornia slender salamande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trachoseps attenu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as reclassified in the mid 1990s into more than 20 different species, after being called just one species for hundreds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the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please take until 7:35 to generate a summary of the main ideas from last week, and one reasonable multiple choice test question about one of thos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2590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satina escholtz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alamander in California and Oregon, has populations that don’t look alik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’t breed with each other.  But others can and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9880" y="507960"/>
            <a:ext cx="50929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 Concept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ctually many different ways that species can be defined.  Different scientists have a preference for different methods, but usually, something has to be justified by several of them in order to be classified and accepted by the scientific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 Concept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table and read through the different species concepts.  Be sure that you have a handle on what each one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try to imagine scenarios in which some living thing or things meets one or more definitions, but not others.  Maybe you would consider them to be a single species, maybe not.  Write their stories to be presented to another group to cons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ll consider the scenarios presented by others, and must discuss and come to an evidence-based consensus as to whether or not you’d call them the same or different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we’ve tossed the idea of a species around a bit, how many of them do you think w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we’ve tossed the idea of a species around a bit, how many of them do you think w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scientists, operating under realistic modern constraints (time, money, technology), how would you figure out the answer to that question?  With your group, come up with som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it be important to have that measure of our biodiversity, i.e. to know how many species there are?  (Besides curiosit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article (homewor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tly-used tool in classifying an organism t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w to science is the use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chotomous 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hotomous keys are written devices that help you determine the classification of a living through through observation, and a series of branching path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body ever read “Choose Your Own Adventure”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4"/>
              </a:rPr>
              <a:t>http://students.ed.qut.edu.au/n2364379/mdb377/DichotomousKeyOutlin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6"/>
              </a:rPr>
              <a:t>http://students.ed.qut.edu.au/n2364379/mdb377/DKwombat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8"/>
              </a:rPr>
              <a:t>http://students.ed.qut.edu.au/n2364379/mdb377/DKredbelly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onomy Poster Project d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xt Tues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: Practice with Dichotomous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your table partner, bring your notebooks and go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isms that you cannot identify off the tops of your h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a thorough description of them.  If there’s a dead bit that you can take without disturbing the organism (like a dead leaf), you 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assignment will be to use the internet to find a dichotomous key for our area, OR use a field guide built around a dichotomous key, identify your three organisms (common name and most specific tax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Useful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3"/>
              </a:rPr>
              <a:t>http://www.arborday.org/trees/whattree/WhatTree.cfm?ItemID=E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6"/>
              </a:rPr>
              <a:t>http://www.amnh.org/learn/biodiversity_counts/ident_help/Text_Keys/text_keys_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9"/>
              </a:rPr>
              <a:t>http://www.mushroomexpert.com/major_group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h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noderm Example: Practice making a dichotomous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3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gets some organisms, an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dichotomous key for those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then leave your key with your organisms, names concealed.  Another group will step in; they should be able to correctly identify every organism using your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Taxonomic Rank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ir, come up with at least one mnemonic device for the ranks (DKPCOFGS).  We will vote on the best one, and that pair gets a sti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into lab group, get materials.  If you didn’t read the lab packet, take a moment to skim it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Lines on paper and cut out Caminal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rrange the living Caminalcules on Line 0 (present day), with the most related ones next to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Start placing the fossil Caminalcules on their lines, like you did with the modern day ones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 people like starting with 1 million years ago and working back, some like starting 19 million years ago and working forwa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Use similarities to figure out out who descended from who!  Draw lines connecting ancestor with descendent.  (Hint: no one Caminalcule has more than 2 descendents on the next line u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4568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at your “family tree” will look something like (though yours will have year lines, and pictures instead of nam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29000" y="2422440"/>
            <a:ext cx="50068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lab group, come up with a succinct explanation:  What is the relationship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common ances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xonomic 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common ances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ny two kinds of living thing = the most recent living thing from which they are both desc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nd your siblings have your parents as your LCA.  You and your cousins have your grandparents as your LCA.  You and your second cousins have your great-grandparents. 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5:02Z</dcterms:created>
  <dc:creator>Rebecca Stang</dc:creator>
  <dc:description/>
  <dc:language>en-US</dc:language>
  <cp:lastModifiedBy>Rebecca Stang</cp:lastModifiedBy>
  <dcterms:modified xsi:type="dcterms:W3CDTF">2009-02-18T00:04:40Z</dcterms:modified>
  <cp:revision>13</cp:revision>
  <dc:subject/>
  <dc:title>PowerPoint Presentation</dc:title>
</cp:coreProperties>
</file>